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E6B-BCB4-4B61-8892-BF331CFA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52B-BD9E-4484-8F34-69156E35A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A0E8-3C46-4F5D-BE78-62882FA2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7C77-91C1-480A-A4E1-967D397F4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573-9B79-4A80-95BE-349BD3A7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281-A82D-463D-85E7-27FF9798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EA1-0462-4E17-BDB3-B07CF0C5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C8E-9683-4A98-9830-8A6556C7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58C-86A0-41E1-A982-10DB86EC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2F5-79C5-41DC-8373-998BD852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800-0DA3-4453-ADA5-0EED4E19C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7A1-7B0F-498D-8AC4-3CE1982D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00E5-59B9-475D-9266-BF319103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158-0BF6-47C1-9406-67F00BAD8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1A6-A839-4095-BEED-D8F7438E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30D-1121-4071-9D62-928C8FFA2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3C5-8E40-4CDC-8B4A-9B52A3BA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33C-AA11-4D8D-AB13-15EBD5555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A9C-BD81-44FF-87BF-B43A6536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6CE-0D05-4AA5-BED9-CC67A775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A36-5196-474C-B8BD-97FA4E47B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CC8-6BBA-413F-BA7C-3FC617EF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94F-6D77-4DE2-AC54-6D6CC2A0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201-E724-4826-94A1-09055EE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51B-ED50-49BB-A589-D4339E3C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A49-6B1F-4424-8746-83ADC6EB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635-6D80-4C49-816A-8C7A947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8C0-86E2-4F82-88CD-352C781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6A-A0B5-48E0-8DA7-2D048520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F12-8FFE-49EA-A9DD-AE240BF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17-0BC5-4F09-8CE5-760DC2C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BCC-EC6B-4BCA-A4DD-E319C33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228-6DF9-4399-ACD9-72EB43D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D178-981A-4B0F-93A7-D5E7C1B65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rivative as the slope of the tange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733920" y="4648320"/>
            <a:ext cx="15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 a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 closer and close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3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1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4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7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2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316160" y="1450800"/>
            <a:ext cx="616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lope of the secant li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s clo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the slope of the tangent lin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133720" y="3505320"/>
            <a:ext cx="47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.as the value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 closer to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133720" y="52578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anslates to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92000" y="205740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124080" y="2666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272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038480" y="1828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(x) - f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572360" y="251460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4114800" y="2590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8954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858920" y="41562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for the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 flipH="1" flipV="1">
            <a:off x="5714640" y="3352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36520" y="5181480"/>
            <a:ext cx="45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gives us the the exact sl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ine tangent to the curv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1143000" y="38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 flipV="1">
            <a:off x="16765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814040" y="598500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981440" y="45720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9051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943600" y="22510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+h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095880" y="2590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h)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98108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58672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765120" y="339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x+h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769608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708660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2127600" y="6324480"/>
            <a:ext cx="45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 this particular curv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negative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371952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4840" y="2286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   f(a+h) - f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895480" y="27432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3716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600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1337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569040" y="3622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330800" y="471492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    f(x) - f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343400" y="50673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5720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487480" y="5105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27640" y="5867280"/>
            <a:ext cx="74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s a way to calculate the slope of the line tangent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should I u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043800" y="426708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esn’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simple examp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257800" cy="3902040"/>
          </a:xfrm>
          <a:prstGeom prst="rect">
            <a:avLst/>
          </a:prstGeom>
          <a:ln w="0">
            <a:noFill/>
          </a:ln>
        </p:spPr>
      </p:pic>
      <p:sp>
        <p:nvSpPr>
          <p:cNvPr id="256" name="Line 11"/>
          <p:cNvSpPr/>
          <p:nvPr/>
        </p:nvSpPr>
        <p:spPr>
          <a:xfrm flipV="1">
            <a:off x="4267080" y="3504960"/>
            <a:ext cx="19051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6400440" y="495288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e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 flipH="1" flipV="1">
            <a:off x="5562360" y="44193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h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1503360"/>
                <a:ext cx="1200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35120" y="720720"/>
                <a:ext cx="76737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/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28800" y="2438280"/>
                <a:ext cx="4788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6"/>
          <p:cNvSpPr/>
          <p:nvPr/>
        </p:nvSpPr>
        <p:spPr>
          <a:xfrm>
            <a:off x="3658320" y="41911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x      a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2670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371600" y="1066680"/>
                <a:ext cx="6172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2438280"/>
                <a:ext cx="6781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h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5480" y="4191120"/>
                <a:ext cx="3048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Text Box 6"/>
          <p:cNvSpPr/>
          <p:nvPr/>
        </p:nvSpPr>
        <p:spPr>
          <a:xfrm>
            <a:off x="3187080" y="5680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our examp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257800" cy="3902040"/>
          </a:xfrm>
          <a:prstGeom prst="rect">
            <a:avLst/>
          </a:prstGeom>
          <a:ln w="0">
            <a:noFill/>
          </a:ln>
        </p:spPr>
      </p:pic>
      <p:sp>
        <p:nvSpPr>
          <p:cNvPr id="273" name="Line 4"/>
          <p:cNvSpPr/>
          <p:nvPr/>
        </p:nvSpPr>
        <p:spPr>
          <a:xfrm flipV="1">
            <a:off x="4267080" y="3504960"/>
            <a:ext cx="19051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400440" y="49528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=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i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5562360" y="44193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362480" y="331488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h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14400" y="1503360"/>
                <a:ext cx="1200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e of change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the lin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ang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the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rivative is the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line tangent to the curve (evaluated at a point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know why slope was so important in your algebra clas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limit (2 ways to define i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learn the rules of derivatives, you will still remember these limit definitions, but you won’t use them to figure out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rivative of a constant function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rivative of f(x) = c where c is a constant is given by 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 '(x) = 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 </a:t>
            </a: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  f(x) = - 10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'(x) = 0  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rivative of a power function (power rule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rivative of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 r is a constant real number is given by 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 '(x) = r x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r - 1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  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-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'(x) = -2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-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-2 /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tive of a function multiplied by a constant:</a:t>
            </a:r>
            <a:br>
              <a:rPr sz="28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rivative of f(x) = c g(x) is given by 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'(x) = c g '(x)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f(x) =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c = 3, and g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'(x) = c g '(x) = 3 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9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tive of the sum of functions (sum rule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 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rivative of f(x) = g(x) + h(x) is given by 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'(x) = g '(x) + h '(x)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   Let g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(x) = 4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'(x) = g '(x) + h '(x) = 2x + 0 = 2x</a:t>
            </a:r>
            <a:r>
              <a:rPr b="0" lang="en-US" sz="3200" spc="-1" strike="noStrike">
                <a:solidFill>
                  <a:srgbClr val="fa130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nge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rc 8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710040" y="4668840"/>
            <a:ext cx="134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inter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 flipH="1">
            <a:off x="6781320" y="5257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of a seca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982160" y="45720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19051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156000" y="22510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617220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6400800" y="259092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of a (closer) secant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20220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590920" y="47242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905120" y="3733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65530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715360" y="5562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156000" y="22510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 - 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617220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400800" y="259092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352680" y="3962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754280" y="60357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r and clos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28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3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4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6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7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8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0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1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slop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1600200" y="3276720"/>
            <a:ext cx="53341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1676520" y="3048120"/>
            <a:ext cx="54864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2362320" y="3048120"/>
            <a:ext cx="4572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2819520" y="3048120"/>
            <a:ext cx="419076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4191120" y="3200400"/>
            <a:ext cx="29718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4876920" y="3048120"/>
            <a:ext cx="20574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1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7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3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1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9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7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3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477120" y="601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21337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6"/>
          <p:cNvSpPr/>
          <p:nvPr/>
        </p:nvSpPr>
        <p:spPr>
          <a:xfrm>
            <a:off x="472428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525780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60199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640080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276720" y="632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800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525780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6019920" y="63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181476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4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9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1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6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8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3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pe of the secant line gets closer and closer to the slope of the tangent lin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13716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62120" y="6019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rc 5"/>
          <p:cNvSpPr/>
          <p:nvPr/>
        </p:nvSpPr>
        <p:spPr>
          <a:xfrm>
            <a:off x="1143000" y="3581280"/>
            <a:ext cx="5715000" cy="2895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952880" y="2286000"/>
            <a:ext cx="243864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6629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523880" y="3429000"/>
            <a:ext cx="579132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057400" y="3048120"/>
            <a:ext cx="5562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754280" y="6035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200400" y="3048120"/>
            <a:ext cx="42670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3962520" y="3276720"/>
            <a:ext cx="3504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724280" y="335268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105520" y="3048120"/>
            <a:ext cx="190476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1600200" y="3276720"/>
            <a:ext cx="53341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1676520" y="3048120"/>
            <a:ext cx="54864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2362320" y="3048120"/>
            <a:ext cx="4572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819520" y="3048120"/>
            <a:ext cx="419076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191120" y="3200400"/>
            <a:ext cx="29718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4876920" y="3048120"/>
            <a:ext cx="20574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9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6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3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7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1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8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49:37Z</dcterms:created>
  <dc:creator>amoser</dc:creator>
  <dc:description/>
  <dc:language>en-US</dc:language>
  <cp:lastModifiedBy>SHS</cp:lastModifiedBy>
  <dcterms:modified xsi:type="dcterms:W3CDTF">2011-06-09T12:03:55Z</dcterms:modified>
  <cp:revision>18</cp:revision>
  <dc:subject/>
  <dc:title>derivatives</dc:title>
</cp:coreProperties>
</file>